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homp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77600" cy="93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008240" y="-36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93760" y="703080"/>
            <a:ext cx="4689360" cy="35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07760" y="4456080"/>
            <a:ext cx="5661000" cy="4222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8910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008240" y="891036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B760-DCD4-42D2-AFF3-AC0C51EB0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7760" y="4456080"/>
            <a:ext cx="56610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4008600" y="891072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9B7B-C6BE-439A-BA9B-4CFF849BDD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465E-EFC8-42D8-B71A-3C5B5FBB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7C2E-7562-4EAF-874D-5C9511BD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6184-A9CF-4743-AB32-731391579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DABE-25F5-4342-B3CC-BBFAF21D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15E6-DBAD-440D-B726-364B18FA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E7C2-2DB7-4056-A384-573EA362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8E1B-DA4D-4264-9DD0-0B6F47C0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49E8-886D-4EA2-9482-FFCDB1D2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FC23-EBF9-407B-AF50-D33CF456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8D0F-BEF1-4BD4-90E9-3C691530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372C-70D9-4CB0-A907-0EE1A403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1D8B-60FE-4C92-BB52-40FF72A9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FD0A-EDE1-4FBE-A0C2-A54B36DB654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6"/>
          <p:cNvSpPr/>
          <p:nvPr/>
        </p:nvSpPr>
        <p:spPr>
          <a:xfrm>
            <a:off x="64008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6400800" y="4419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89" name="Rounded Rectangular Callout 4"/>
          <p:cNvSpPr/>
          <p:nvPr/>
        </p:nvSpPr>
        <p:spPr>
          <a:xfrm>
            <a:off x="5105520" y="3048120"/>
            <a:ext cx="3352680" cy="2666880"/>
          </a:xfrm>
          <a:prstGeom prst="wedgeRoundRectCallout">
            <a:avLst>
              <a:gd name="adj1" fmla="val -101467"/>
              <a:gd name="adj2" fmla="val 878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is brought to you b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©2010 by Robin L. Simm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Quick Tes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762120" y="1676520"/>
            <a:ext cx="7619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option that corrects an error in the underlined portion(s). If no error exists, choose “No change is necessar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7" descr="point.jpg"/>
          <p:cNvPicPr/>
          <p:nvPr/>
        </p:nvPicPr>
        <p:blipFill>
          <a:blip r:embed="rId1"/>
          <a:stretch/>
        </p:blipFill>
        <p:spPr>
          <a:xfrm>
            <a:off x="2998800" y="3657600"/>
            <a:ext cx="1881000" cy="320040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ular Callout 6"/>
          <p:cNvSpPr/>
          <p:nvPr/>
        </p:nvSpPr>
        <p:spPr>
          <a:xfrm>
            <a:off x="5638680" y="4495680"/>
            <a:ext cx="2133720" cy="1752840"/>
          </a:xfrm>
          <a:prstGeom prst="wedgeRoundRectCallout">
            <a:avLst>
              <a:gd name="adj1" fmla="val -124648"/>
              <a:gd name="adj2" fmla="val -6075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w me wha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you k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9451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9951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533520" y="1676520"/>
            <a:ext cx="80769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esha is good at math. See if she and Sam wi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oin our study group. Clueless students like w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 use all the help we can ge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533520" y="1676520"/>
            <a:ext cx="8076960" cy="4876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esha is good at math. See i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d Sam wi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oi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o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udy group. Clueless students lik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                                                            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 use all the help we can ge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533520" y="1676520"/>
            <a:ext cx="8076960" cy="4876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esha is good at math. See i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d Sam wi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oi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o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udy group. Clueless students lik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       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 use all the help we can ge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vin got an aisle seat. Cherise sat betwe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yron and he. Together they slurped their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das as the guest lecturer droned on about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man Empi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yron and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vin got an aisle seat. Cherise sat betwe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Byron and 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 Togethe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lurpe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das as the guest lecturer droned on about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man Empi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yron and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vin got an aisle seat. Cherise sat betwe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Byron and hi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 Togethe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lurpe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das as the guest lecturer droned on about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man Empi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yron and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533520" y="1447920"/>
            <a:ext cx="8076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 and Tonya prefer morning classes. O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ommates like to stay up late playing loud vide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ames. We hope to kick them out of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artment next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nya and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tw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533520" y="1447920"/>
            <a:ext cx="8076960" cy="5257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Me and Tony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refer morning classes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O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ommates like to stay up late playing loud vide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ames. We hope to kick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 of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artment next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nya and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tw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533520" y="1447920"/>
            <a:ext cx="8076960" cy="5257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onya and 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refer morning classes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O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ommates like to stay up late playing loud vide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ames. We hope to kick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 of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artment next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onya and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tw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533520" y="1676520"/>
            <a:ext cx="80769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ila has a golden retriever. Perhaps that hair 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r green beans comes from she or the do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ce the strand is dark in color, I’ll bet it’s h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533520" y="1676520"/>
            <a:ext cx="8076960" cy="4876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ila has a golden retriever. Perhaps that hair 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green beans comes from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r the do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ce the strand is dark in color, I’ll bet it’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533520" y="1676520"/>
            <a:ext cx="8076960" cy="4876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ila has a golden retriever. Perhaps that hair 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green beans comes from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r the do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ce the strand is dark in color, I’ll bet it’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bigail studied six hours for the chemistry exa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she and her lab partner saw the test, the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th knew their hard work would protect thei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 aver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bigail studied six hours for the chemistry exa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d her lab partner saw the test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th knew their hard work would protec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 aver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bigail studied six hours for the chemistry exa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d her lab partner saw the test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th knew their hard work would protec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 aver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457200" y="167652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icholas likes to gossip. Be careful what you sa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ound Julie and him. They both believe that yo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s—whether good or bad—is their’s to spr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and Jul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457200" y="1676520"/>
            <a:ext cx="8229600" cy="4800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icholas likes to gossip. Be careful what you sa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ou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Julie and hi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oth believe that yo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s—whether good or bad—i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’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spr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and Jul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457200" y="1676520"/>
            <a:ext cx="8229600" cy="4800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icholas likes to gossip. Be careful what you sa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ou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Julie and hi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oth believe that yo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s—whether good or bad—i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hei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spr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and Jul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n though Grandma and I brought a calculat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coupons, we spent too much money groce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pping. The fault is mainly her’s, as s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isted on ice cream that neither of us nee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 and Grand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n thoug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Grandma and 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rought a calculat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coupons, we spent too much money groce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pping. The fault is mainl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er’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as s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isted on ice cream that neither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nee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 and Grand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n thoug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Grandma and 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rought a calculat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coupons, we spent too much money groce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pping. The fault is mainl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as s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isted on ice cream that neither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nee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 and Grand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m gave me and Sheila a lecture about goo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nners. Mom had heard that me and Shei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got to send Aunt Louise a thank-you card for o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ristmas pres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ila and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ila and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m ga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me and Shei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lecture about goo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nners. Mom had heard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me and Shei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got to send Aunt Louise a thank-you card fo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o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ristmas pres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ila and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ila and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m ga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me and Shei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lecture about goo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nners. Mom had heard tha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heila and 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got to send Aunt Louise a thank-you card fo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o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ristmas pres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ila and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heila and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 friends and I spent biology lab eating popcor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giggling. After lab, Mr. Rivera threatened w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ree with withdrawal. He insisted that o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havior and attitude must 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 and my fri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533520" y="1523880"/>
            <a:ext cx="83055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My friends and 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pent biology lab eating popcor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giggling. After lab, Mr. Rivera threatene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ree with withdrawal. He insisted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o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havior and attitude must 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 and my fri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533520" y="1523880"/>
            <a:ext cx="83055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My friends and 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pent biology lab eating popcor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giggling. After lab, Mr. Rivera threatened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ree with withdrawal. He insisted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o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havior and attitude must 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 and my fri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think.jpg"/>
          <p:cNvPicPr/>
          <p:nvPr/>
        </p:nvPicPr>
        <p:blipFill>
          <a:blip r:embed="rId1"/>
          <a:stretch/>
        </p:blipFill>
        <p:spPr>
          <a:xfrm>
            <a:off x="1523880" y="2133720"/>
            <a:ext cx="5119920" cy="4510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noun Case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Rounded Rectangular Callout 7"/>
          <p:cNvSpPr/>
          <p:nvPr/>
        </p:nvSpPr>
        <p:spPr>
          <a:xfrm>
            <a:off x="304920" y="1981080"/>
            <a:ext cx="2133360" cy="2133720"/>
          </a:xfrm>
          <a:prstGeom prst="wedgeRoundRectCallout">
            <a:avLst>
              <a:gd name="adj1" fmla="val 161824"/>
              <a:gd name="adj2" fmla="val 397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I need the pronou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the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ounded Rectangular Callout 8"/>
          <p:cNvSpPr/>
          <p:nvPr/>
        </p:nvSpPr>
        <p:spPr>
          <a:xfrm>
            <a:off x="6705720" y="3200400"/>
            <a:ext cx="2133360" cy="2286000"/>
          </a:xfrm>
          <a:prstGeom prst="wedgeRoundRectCallout">
            <a:avLst>
              <a:gd name="adj1" fmla="val -117527"/>
              <a:gd name="adj2" fmla="val -4812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 do I need the pronou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them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tea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701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gave our calculus notes to Diego and sh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lent us theirs. Before the big exam,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students need to make sure that we ha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 word Dr. Nguyen delivered in lec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gave our calculus notes to Diego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lent u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 Before the big exam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e stud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need to make sure that we ha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 word Dr. Nguyen delivered in lec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gave our calculus notes to Diego and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lent u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 Before the big exam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e stud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need to make sure that we ha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 word Dr. Nguyen delivered in lec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7"/>
          <p:cNvSpPr/>
          <p:nvPr/>
        </p:nvSpPr>
        <p:spPr>
          <a:xfrm>
            <a:off x="5486400" y="2895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548640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179" name="Rounded Rectangular Callout 4"/>
          <p:cNvSpPr/>
          <p:nvPr/>
        </p:nvSpPr>
        <p:spPr>
          <a:xfrm>
            <a:off x="4800600" y="2362320"/>
            <a:ext cx="3962520" cy="2895480"/>
          </a:xfrm>
          <a:prstGeom prst="wedgeRoundRectCallout">
            <a:avLst>
              <a:gd name="adj1" fmla="val -96148"/>
              <a:gd name="adj2" fmla="val 168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vides additional handouts and exercises o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pronoun c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Go t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chompchomp.co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3"/>
          <p:cNvSpPr/>
          <p:nvPr/>
        </p:nvSpPr>
        <p:spPr>
          <a:xfrm>
            <a:off x="2286000" y="28954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brunette.jpg"/>
          <p:cNvPicPr/>
          <p:nvPr/>
        </p:nvPicPr>
        <p:blipFill>
          <a:blip r:embed="rId1"/>
          <a:srcRect l="3880" t="0" r="0" b="4687"/>
          <a:stretch/>
        </p:blipFill>
        <p:spPr>
          <a:xfrm>
            <a:off x="0" y="2209680"/>
            <a:ext cx="3772080" cy="4648320"/>
          </a:xfrm>
          <a:prstGeom prst="rect">
            <a:avLst/>
          </a:prstGeom>
          <a:ln w="0">
            <a:noFill/>
          </a:ln>
        </p:spPr>
      </p:pic>
      <p:sp>
        <p:nvSpPr>
          <p:cNvPr id="95" name="Rounded Rectangular Callout 2"/>
          <p:cNvSpPr/>
          <p:nvPr/>
        </p:nvSpPr>
        <p:spPr>
          <a:xfrm>
            <a:off x="5486400" y="2666880"/>
            <a:ext cx="3352680" cy="3505320"/>
          </a:xfrm>
          <a:prstGeom prst="wedgeRoundRectCallout">
            <a:avLst>
              <a:gd name="adj1" fmla="val -139023"/>
              <a:gd name="adj2" fmla="val 855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vers when to us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ubj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obj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possess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noun for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1523880"/>
            <a:ext cx="701064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pronoun case item on an objective test might look like thi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609480" y="160020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n and I offered to help move the furniture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w residents rolled their eyes when the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w that us two had skinny a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 and St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609480" y="1600200"/>
            <a:ext cx="79250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tan and 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ffered to help move the furniture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w residents rolle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eyes when the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w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wo had skinny a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 and St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609480" y="1600200"/>
            <a:ext cx="79250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tan and 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ffered to help move the furniture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w residents rolle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eyes when the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w tha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w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wo had skinny a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 and St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17" descr="brunette02.jpg"/>
          <p:cNvPicPr/>
          <p:nvPr/>
        </p:nvPicPr>
        <p:blipFill>
          <a:blip r:embed="rId1"/>
          <a:stretch/>
        </p:blipFill>
        <p:spPr>
          <a:xfrm>
            <a:off x="7686720" y="3352680"/>
            <a:ext cx="1152360" cy="3353040"/>
          </a:xfrm>
          <a:prstGeom prst="rect">
            <a:avLst/>
          </a:prstGeom>
          <a:ln w="0">
            <a:noFill/>
          </a:ln>
        </p:spPr>
      </p:pic>
      <p:sp>
        <p:nvSpPr>
          <p:cNvPr id="102" name="Rounded Rectangular Callout 18"/>
          <p:cNvSpPr/>
          <p:nvPr/>
        </p:nvSpPr>
        <p:spPr>
          <a:xfrm>
            <a:off x="4114800" y="4114800"/>
            <a:ext cx="2209680" cy="1676520"/>
          </a:xfrm>
          <a:prstGeom prst="wedgeRoundRectCallout">
            <a:avLst>
              <a:gd name="adj1" fmla="val 121328"/>
              <a:gd name="adj2" fmla="val -6229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Stan and </a:t>
            </a:r>
            <a:r>
              <a:rPr b="1" i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the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or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u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probl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ounded Rectangular Callout 19"/>
          <p:cNvSpPr/>
          <p:nvPr/>
        </p:nvSpPr>
        <p:spPr>
          <a:xfrm>
            <a:off x="4114800" y="4114800"/>
            <a:ext cx="2209680" cy="1676520"/>
          </a:xfrm>
          <a:prstGeom prst="wedgeRoundRectCallout">
            <a:avLst>
              <a:gd name="adj1" fmla="val 121328"/>
              <a:gd name="adj2" fmla="val -6320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U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eds to become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w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a change option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k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8"/>
          <p:cNvSpPr/>
          <p:nvPr/>
        </p:nvSpPr>
        <p:spPr>
          <a:xfrm>
            <a:off x="1143000" y="3581280"/>
            <a:ext cx="6858000" cy="10670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 and Meredith threw mashed potatoes at Hen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ubjective Pronouns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761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ms include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w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and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subject pronoun functions as the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ubject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 a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ver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1143000" y="3581280"/>
            <a:ext cx="6858000" cy="10670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Meredith and I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w mashed potatoes at Hen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7" descr="point.jpg"/>
          <p:cNvPicPr/>
          <p:nvPr/>
        </p:nvPicPr>
        <p:blipFill>
          <a:blip r:embed="rId1"/>
          <a:stretch/>
        </p:blipFill>
        <p:spPr>
          <a:xfrm>
            <a:off x="1905120" y="4594320"/>
            <a:ext cx="1330200" cy="2263680"/>
          </a:xfrm>
          <a:prstGeom prst="rect">
            <a:avLst/>
          </a:prstGeom>
          <a:ln w="0">
            <a:noFill/>
          </a:ln>
        </p:spPr>
      </p:pic>
      <p:sp>
        <p:nvSpPr>
          <p:cNvPr id="109" name="Rounded Rectangular Callout 5"/>
          <p:cNvSpPr/>
          <p:nvPr/>
        </p:nvSpPr>
        <p:spPr>
          <a:xfrm>
            <a:off x="4343400" y="5029200"/>
            <a:ext cx="3048120" cy="1523880"/>
          </a:xfrm>
          <a:prstGeom prst="wedgeRoundRectCallout">
            <a:avLst>
              <a:gd name="adj1" fmla="val -105476"/>
              <a:gd name="adj2" fmla="val -5030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Me thre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shed potatoes? I don’t think s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731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231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8"/>
          <p:cNvSpPr/>
          <p:nvPr/>
        </p:nvSpPr>
        <p:spPr>
          <a:xfrm>
            <a:off x="1219320" y="3962520"/>
            <a:ext cx="6705360" cy="9903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st between you and I, Stevie shouldn’t try to kiss Grace with spinach in his teeth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sit.jpg"/>
          <p:cNvPicPr/>
          <p:nvPr/>
        </p:nvPicPr>
        <p:blipFill>
          <a:blip r:embed="rId1"/>
          <a:stretch/>
        </p:blipFill>
        <p:spPr>
          <a:xfrm>
            <a:off x="6356520" y="5105520"/>
            <a:ext cx="2330280" cy="17524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Objective Pronouns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ms include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hi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and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 objective pronoun functions as a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direct obj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indirect obj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or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object of a preposi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Rounded Rectangular Callout 5"/>
          <p:cNvSpPr/>
          <p:nvPr/>
        </p:nvSpPr>
        <p:spPr>
          <a:xfrm>
            <a:off x="1295280" y="5105520"/>
            <a:ext cx="3733920" cy="1523880"/>
          </a:xfrm>
          <a:prstGeom prst="wedgeRoundRectCallout">
            <a:avLst>
              <a:gd name="adj1" fmla="val 135162"/>
              <a:gd name="adj2" fmla="val -2030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a preposition lik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betwee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lways use th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objec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nou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219320" y="3962520"/>
            <a:ext cx="6705360" cy="9903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st between you and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 m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evie shouldn’t try to kiss Grace with spinach in his teeth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Direct vs. Indirect Objects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find a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direct object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use this formula: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subjec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verb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what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r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who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indirect objec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 whoever or whatever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receiv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direct objec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838080" y="3809880"/>
            <a:ext cx="7467840" cy="990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ystal gave Stevie a toothbrush before the kissing beg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6" descr="brunette.jpg"/>
          <p:cNvPicPr/>
          <p:nvPr/>
        </p:nvPicPr>
        <p:blipFill>
          <a:blip r:embed="rId1"/>
          <a:srcRect l="3880" t="0" r="0" b="4687"/>
          <a:stretch/>
        </p:blipFill>
        <p:spPr>
          <a:xfrm>
            <a:off x="0" y="4979880"/>
            <a:ext cx="1523880" cy="1878120"/>
          </a:xfrm>
          <a:prstGeom prst="rect">
            <a:avLst/>
          </a:prstGeom>
          <a:ln w="0">
            <a:noFill/>
          </a:ln>
        </p:spPr>
      </p:pic>
      <p:sp>
        <p:nvSpPr>
          <p:cNvPr id="120" name="Rounded Rectangular Callout 7"/>
          <p:cNvSpPr/>
          <p:nvPr/>
        </p:nvSpPr>
        <p:spPr>
          <a:xfrm>
            <a:off x="3886200" y="5105520"/>
            <a:ext cx="3733920" cy="1523880"/>
          </a:xfrm>
          <a:prstGeom prst="wedgeRoundRectCallout">
            <a:avLst>
              <a:gd name="adj1" fmla="val -130143"/>
              <a:gd name="adj2" fmla="val 769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stal gave what?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toothbrus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dir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ounded Rectangular Callout 8"/>
          <p:cNvSpPr/>
          <p:nvPr/>
        </p:nvSpPr>
        <p:spPr>
          <a:xfrm>
            <a:off x="3886200" y="5105520"/>
            <a:ext cx="3733920" cy="1523880"/>
          </a:xfrm>
          <a:prstGeom prst="wedgeRoundRectCallout">
            <a:avLst>
              <a:gd name="adj1" fmla="val -130143"/>
              <a:gd name="adj2" fmla="val 769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o received the toothbrush?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tevi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indir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838080" y="3809880"/>
            <a:ext cx="7467840" cy="990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ystal gave Stevie a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 toothbrus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the kissing beg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838080" y="3809880"/>
            <a:ext cx="7467840" cy="990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ystal gave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 Stevi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toothbrus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the kissing beg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838080" y="3809880"/>
            <a:ext cx="7467840" cy="12193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ystal gave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 him it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the kissing beg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ounded Rectangular Callout 12"/>
          <p:cNvSpPr/>
          <p:nvPr/>
        </p:nvSpPr>
        <p:spPr>
          <a:xfrm>
            <a:off x="3886200" y="5105520"/>
            <a:ext cx="3733920" cy="1523880"/>
          </a:xfrm>
          <a:prstGeom prst="wedgeRoundRectCallout">
            <a:avLst>
              <a:gd name="adj1" fmla="val -130143"/>
              <a:gd name="adj2" fmla="val 769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ways use objective pronouns lik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hi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i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replace ob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431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931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432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1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701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8"/>
          <p:cNvSpPr/>
          <p:nvPr/>
        </p:nvSpPr>
        <p:spPr>
          <a:xfrm>
            <a:off x="914400" y="3733920"/>
            <a:ext cx="7315200" cy="1447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Johnnie stepped to the plate and hit a home run, we rubbed ours eyes in disbelie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Possessive Pronouns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23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ms include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m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mi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yo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you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h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h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o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ou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and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thei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ssessive pronouns do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no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quire an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apostrophe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djective forms do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no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gree with the nouns that follow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914400" y="3733920"/>
            <a:ext cx="7315200" cy="1447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Johnnie stepped to the plate and hit a home run, we rubbed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 ou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yes in disbelie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7" descr="kneel.jpg"/>
          <p:cNvPicPr/>
          <p:nvPr/>
        </p:nvPicPr>
        <p:blipFill>
          <a:blip r:embed="rId1"/>
          <a:stretch/>
        </p:blipFill>
        <p:spPr>
          <a:xfrm>
            <a:off x="582480" y="5110200"/>
            <a:ext cx="1017720" cy="1747800"/>
          </a:xfrm>
          <a:prstGeom prst="rect">
            <a:avLst/>
          </a:prstGeom>
          <a:ln w="0">
            <a:noFill/>
          </a:ln>
        </p:spPr>
      </p:pic>
      <p:sp>
        <p:nvSpPr>
          <p:cNvPr id="131" name="Rounded Rectangular Callout 5"/>
          <p:cNvSpPr/>
          <p:nvPr/>
        </p:nvSpPr>
        <p:spPr>
          <a:xfrm>
            <a:off x="4191120" y="4952880"/>
            <a:ext cx="3886200" cy="1828800"/>
          </a:xfrm>
          <a:prstGeom prst="wedgeRoundRectCallout">
            <a:avLst>
              <a:gd name="adj1" fmla="val -126430"/>
              <a:gd name="adj2" fmla="val -193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Y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ir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adjecti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Y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h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ir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nou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901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401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2010 by Robin L. Simmons. All Rights Reserved.</dc:description>
  <cp:keywords>pronouns pronoun case grammar Grammar Bytes! Robin L. Simmons</cp:keywords>
  <dc:language>en-US</dc:language>
  <cp:lastModifiedBy>RSimmons</cp:lastModifiedBy>
  <dcterms:modified xsi:type="dcterms:W3CDTF">2010-01-04T18:31:39Z</dcterms:modified>
  <cp:revision>120</cp:revision>
  <dc:subject/>
  <dc:title>Pronoun Case</dc:title>
</cp:coreProperties>
</file>